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22000" y="3568320"/>
            <a:ext cx="10541160" cy="262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3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3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3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3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23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4" name=""/>
          <p:cNvSpPr/>
          <p:nvPr/>
        </p:nvSpPr>
        <p:spPr>
          <a:xfrm>
            <a:off x="27792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5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6" name=""/>
          <p:cNvSpPr/>
          <p:nvPr/>
        </p:nvSpPr>
        <p:spPr>
          <a:xfrm>
            <a:off x="27792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6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6" name=""/>
          <p:cNvSpPr/>
          <p:nvPr/>
        </p:nvSpPr>
        <p:spPr>
          <a:xfrm>
            <a:off x="27792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7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8" name=""/>
          <p:cNvSpPr/>
          <p:nvPr/>
        </p:nvSpPr>
        <p:spPr>
          <a:xfrm>
            <a:off x="27792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7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5000"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29040" y="2768400"/>
            <a:ext cx="53341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041120" y="1472760"/>
            <a:ext cx="10922040" cy="680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47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47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Entrepreneurship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By Anthony Cerrato and Jeremy Wong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Problem Question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736200" y="44424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How do we help foster the change from a community that struggles to meet its needs to one that meets or even exceeds its needs?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3340080" y="485136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Problem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41480" y="2768400"/>
            <a:ext cx="4533840" cy="595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410040" indent="-4100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e community of San Pablo has a lack of Entrepreneurship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10040" indent="-4100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ey want one of the goals of Guateca to be to encourage young men and women to be Entrepreneur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4"/>
          <a:stretch/>
        </p:blipFill>
        <p:spPr>
          <a:xfrm>
            <a:off x="6591240" y="4927680"/>
            <a:ext cx="5079960" cy="380988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5"/>
          <a:stretch/>
        </p:blipFill>
        <p:spPr>
          <a:xfrm>
            <a:off x="6591240" y="546120"/>
            <a:ext cx="5079960" cy="37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1041480" y="609120"/>
            <a:ext cx="1008360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ere is a less developed system of job specialization in San Pablo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3"/>
          <a:stretch/>
        </p:blipFill>
        <p:spPr>
          <a:xfrm>
            <a:off x="190440" y="4622760"/>
            <a:ext cx="126111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1041120" y="24084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Pete has also stated that one of his goals on his first Guateca trip was to create enterprises in the community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o far no enterprises have been created from Guateca in San Pablo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4"/>
          <a:stretch/>
        </p:blipFill>
        <p:spPr>
          <a:xfrm>
            <a:off x="4076640" y="5346720"/>
            <a:ext cx="4842000" cy="36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onstraint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unding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raining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ompetition from the private sector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Hurdles from governmen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ack of resource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ack of mentorship within the community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urrent Developments:</a:t>
            </a:r>
            <a:br>
              <a:rPr sz="7800"/>
            </a:b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Working Village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2"/>
          <a:stretch/>
        </p:blipFill>
        <p:spPr>
          <a:xfrm>
            <a:off x="1359000" y="2946240"/>
            <a:ext cx="10274040" cy="642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Microfinancing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931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Microfinancing is a possible solution and has been used to finance many enterprises in rural low-income communitie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Kiva has given $248 million in loans with a 98.87% return rate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4"/>
          <a:stretch/>
        </p:blipFill>
        <p:spPr>
          <a:xfrm>
            <a:off x="7124760" y="3695760"/>
            <a:ext cx="5334120" cy="23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What is being done?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041480" y="2374920"/>
            <a:ext cx="499104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427320" indent="-42732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e appropriate technologies being developed in this class and in the MIT D lab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27320" indent="-42732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Making sure the technology will be used to create enterprises will be difficult, but it is not impossible!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4"/>
          <a:stretch/>
        </p:blipFill>
        <p:spPr>
          <a:xfrm>
            <a:off x="6858000" y="3365640"/>
            <a:ext cx="4965840" cy="450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